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F690-164A-4E67-8E93-5F66A3B83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5463-839E-480F-9E23-31ADDF78C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AF35-489B-4E4E-8698-51DEA7CD5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81B-C093-4F7E-A859-62F8CE3A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E6D-1CB9-4250-AF7A-5AB5302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C82-592D-4A52-80E1-9A67F267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FBD-6B2F-4BA6-B8B2-0C15DDB2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730-9D44-4906-8BEA-F462A680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245-1BDE-4DF7-983D-0CB6A577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7C6-D126-415A-944F-990DE3BE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C11-6269-42FF-9E0A-8CFEE607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F6E-6983-4F18-AAA6-D65E333F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20B-6699-40AC-B057-13AD5BDF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A1C-8CC6-4A42-AC60-A3B6226C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768-7315-4439-96CB-86983197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050D-8F5E-4A9D-BA4A-0D15C6FB8F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69EF-2B2D-460D-9381-44AD6B716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ymag.com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AUTOMATIC ENERGY EFFICIENT EMERGENCY LAMP USING PULSE WIDTH MODUL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58B1-D56E-4796-A3CD-EF418A52BCEB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FBCE-3806-4BAD-8E4C-0C45D0D1E05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380880" y="263520"/>
            <a:ext cx="861084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circuit. Components are easily available and low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switches ON when the mains fails and turns OFF when mains power resumes. Also has its own battery charger which when fully charged stops charging 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veni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our lives simpler , convenient to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onom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nsumption is very less , proves to be more economic for the consu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AND DISADVANTAGES OF L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light per watt than incandescent bul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emit of an intended color without use of color fil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ery sm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/off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ght up very quick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yc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subjected to frequent on-off cyc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m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dimmed by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52C0-F893-44AD-A948-2DC0D78F12E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9D3F-099E-492F-B907-072B1C6B2BB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80880" y="76212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low fail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stly fail by dimming over time, rather than abrupt burn-out of incandescent bu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fe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ng useful lif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Ds do not contain mercury, unlike fluorescent la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urrently more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mperature depen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formance largely depends on the operating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alth haz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ol white LEDs can cause problems to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9EE0-E481-4B26-957C-AD35D75062A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80880" y="5335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LED LAMPS WITH OTHER LIGHTING TECHN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ject was concluded to be  innovative for the improvement of day today lif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also adds a new look to the traditional lam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PWM helps us to reduce the wastage of energ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implementing this circuit is also very less - an added advantage in using this circu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1C3E-631F-41E7-AD90-4FC3CB7DC42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again modernize this project using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expected that with additional development and growing researches, the PWM will gain more popularity and the cost of these bulbs will eventually dec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is project can be adopted for mass production as cheap and efficient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2562-40B0-4D94-B1F0-06723060241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1C06-8830-49F0-A831-2A0352980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FB05-4C67-4F13-A0DC-0A827886B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USER\My Documents\My Pictures\20100701\01072010116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akwad R.A.,OPAMPS &amp; Linear Integrated circuits, Prentice hall of In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l man J.,Microelectronics c Graw H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B Gupta.,Electronic devices and circuits, katson educational s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efymag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wikipedia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E978-8A28-4BC1-9CB3-3D1E623736E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TIVE STUDY OF CIRCUIT WITH AND WITHOUT PW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AND DISADVANTAGES OF 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LED LAMPS WITH OTHER LIGHTING TECHNOLOG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536B-9A30-4429-8486-C06E316831C1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ing demand for the saving of electr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in power supply causes difficulty and inconven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utomatic emergency lamp that uses LED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bright due to use of white LE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s on when mains supply fails ,turns off when power resu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own battery charger –stops  charging automatically when fully char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ject aims to develop most power efficient and user friendly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DF1-5CB5-4559-AABB-BB1920CE8B92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power consumption by using a low-cost, automatic white LED based emergency lamp using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7AF7-EFEE-4953-B1C1-062535C3DCCC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276D-334C-42C2-B6C0-6C43C9AC094A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553080" y="1828800"/>
            <a:ext cx="18288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38080" y="44956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RANS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886200" y="4495680"/>
            <a:ext cx="190512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RIDGE RECTIFIER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6477120" y="4495680"/>
            <a:ext cx="18288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GULATION USING LM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838080" y="1828800"/>
            <a:ext cx="213372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ED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962520" y="1828800"/>
            <a:ext cx="190476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WM USING ASTABLE OPERATION OF 5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2"/>
          <p:cNvSpPr/>
          <p:nvPr/>
        </p:nvSpPr>
        <p:spPr>
          <a:xfrm>
            <a:off x="3124080" y="5029200"/>
            <a:ext cx="762120" cy="380880"/>
          </a:xfrm>
          <a:prstGeom prst="rightArrow">
            <a:avLst>
              <a:gd name="adj1" fmla="val 63796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13"/>
          <p:cNvSpPr/>
          <p:nvPr/>
        </p:nvSpPr>
        <p:spPr>
          <a:xfrm>
            <a:off x="5791320" y="502920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Up Arrow 14"/>
          <p:cNvSpPr/>
          <p:nvPr/>
        </p:nvSpPr>
        <p:spPr>
          <a:xfrm>
            <a:off x="7162920" y="3200400"/>
            <a:ext cx="457200" cy="1295280"/>
          </a:xfrm>
          <a:prstGeom prst="up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eft Arrow 15"/>
          <p:cNvSpPr/>
          <p:nvPr/>
        </p:nvSpPr>
        <p:spPr>
          <a:xfrm>
            <a:off x="5867280" y="2362320"/>
            <a:ext cx="6858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eft Arrow 16"/>
          <p:cNvSpPr/>
          <p:nvPr/>
        </p:nvSpPr>
        <p:spPr>
          <a:xfrm>
            <a:off x="2971800" y="2286000"/>
            <a:ext cx="990720" cy="5335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B30C-A6B1-43CE-87AF-A6E0D0F4B953}" type="slidenum">
              <a:rPr b="1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467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kt 22.png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lvl="1" marL="12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ircuit has three section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rger power supply section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: steps down(9V,500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rectifier: rectifies transformer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317: voltage reg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: provides supply when mains fa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ner diode: conducts when battery crosses its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08660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67057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0CE2-CAE2-4135-9063-4EEAE872BA1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04920" y="99072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 timer s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he LED section by PW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driver 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round BD 1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white LEDs connected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section glows when mains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to blink using astable operation of 5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 fulltime ON due to persistence of 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rcuit without p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876920" y="3962520"/>
          <a:ext cx="3733560" cy="2590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cross each LED = 2.74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through each LED = 2.5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consumed by each LED = 6.85 m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ower consumed by LED array = .0822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23920" y="6091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rcuit with p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12" descr="ckt 22.png"/>
          <p:cNvPicPr/>
          <p:nvPr/>
        </p:nvPicPr>
        <p:blipFill>
          <a:blip r:embed="rId1"/>
          <a:stretch/>
        </p:blipFill>
        <p:spPr>
          <a:xfrm>
            <a:off x="4800600" y="1371600"/>
            <a:ext cx="3886200" cy="236232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2"/>
          <p:cNvSpPr/>
          <p:nvPr/>
        </p:nvSpPr>
        <p:spPr>
          <a:xfrm>
            <a:off x="70102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0FCC-8453-4284-B29F-F7A54168155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led-emergency.jpg"/>
          <p:cNvPicPr/>
          <p:nvPr/>
        </p:nvPicPr>
        <p:blipFill>
          <a:blip r:embed="rId2"/>
          <a:stretch/>
        </p:blipFill>
        <p:spPr>
          <a:xfrm>
            <a:off x="304920" y="137160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3962520"/>
          <a:ext cx="3981600" cy="2611440"/>
        </p:xfrm>
        <a:graphic>
          <a:graphicData uri="http://schemas.openxmlformats.org/drawingml/2006/table">
            <a:tbl>
              <a:tblPr/>
              <a:tblGrid>
                <a:gridCol w="3981600"/>
              </a:tblGrid>
              <a:tr h="26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cross each  LED  = 2.96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through each  LED  = 2.7 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consumed by each LED = 7.992m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ower consumed by LED array = .095904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1:15:37Z</dcterms:created>
  <dc:creator/>
  <dc:description>Electrical Projects</dc:description>
  <dc:language>en-US</dc:language>
  <cp:lastModifiedBy>Brigade</cp:lastModifiedBy>
  <dcterms:modified xsi:type="dcterms:W3CDTF">2011-08-24T20:07:47Z</dcterms:modified>
  <cp:revision>0</cp:revision>
  <dc:subject>Electrical Projects</dc:subject>
  <dc:title>EEE IEEE Projects</dc:title>
</cp:coreProperties>
</file>